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F7E9-B988-4208-8BDF-4A25FB488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4BED-BED1-4D68-93F8-9CC52482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7954-7941-4C50-B057-D42626BD0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D6E5-1919-489B-822C-3DC5103CC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E820-CCB0-4379-B019-40402594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BA56-D01A-4390-B2D4-F75AE9E7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7DFA-FCCA-4348-B571-203C5710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34A6-20CE-4C78-B00F-A48515DC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5E7E-FFCB-4ECC-B0B2-F4E538EC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455F-7873-46AD-A655-A01A28BE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804C-66CF-4792-9BC1-2ECB6B97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00AA-C0CB-4870-823D-5F26A576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F653-93FD-42A4-A74C-BF631D1A90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11030" t="7108" r="11398" b="15197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rcRect l="11030" t="7108" r="11398" b="15197"/>
          <a:stretch/>
        </p:blipFill>
        <p:spPr>
          <a:xfrm>
            <a:off x="0" y="0"/>
            <a:ext cx="3854520" cy="28954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ame God who helped Joseph can give us _______ when we need it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rcRect l="11030" t="7108" r="11398" b="15197"/>
          <a:stretch/>
        </p:blipFill>
        <p:spPr>
          <a:xfrm>
            <a:off x="0" y="0"/>
            <a:ext cx="3854520" cy="28954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809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ame God who helped Joseph can give us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WISDOM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when we need it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rcRect l="11030" t="7108" r="11398" b="15197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rcRect l="11030" t="7108" r="11398" b="15197"/>
          <a:stretch/>
        </p:blipFill>
        <p:spPr>
          <a:xfrm>
            <a:off x="0" y="0"/>
            <a:ext cx="3854520" cy="2895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657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__________ had a dream, and wanted to know what it meant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rcRect l="11030" t="7108" r="11398" b="15197"/>
          <a:stretch/>
        </p:blipFill>
        <p:spPr>
          <a:xfrm>
            <a:off x="0" y="0"/>
            <a:ext cx="3854520" cy="2895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733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PHARAO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had a dream, and wanted to know what it meant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rcRect l="11030" t="7108" r="11398" b="15197"/>
          <a:stretch/>
        </p:blipFill>
        <p:spPr>
          <a:xfrm>
            <a:off x="0" y="0"/>
            <a:ext cx="3854520" cy="2895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9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upbearer told Pharao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t __________ cou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pret dreams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11030" t="7108" r="11398" b="15197"/>
          <a:stretch/>
        </p:blipFill>
        <p:spPr>
          <a:xfrm>
            <a:off x="0" y="0"/>
            <a:ext cx="3854520" cy="2895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9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upbearer told Pharaoh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t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JOSEP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coul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pret dreams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11030" t="7108" r="11398" b="15197"/>
          <a:stretch/>
        </p:blipFill>
        <p:spPr>
          <a:xfrm>
            <a:off x="0" y="0"/>
            <a:ext cx="3854520" cy="2895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42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araoh had a dream about cows and another dream about _________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rcRect l="11030" t="7108" r="11398" b="15197"/>
          <a:stretch/>
        </p:blipFill>
        <p:spPr>
          <a:xfrm>
            <a:off x="0" y="0"/>
            <a:ext cx="3854520" cy="28954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809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araoh had a drea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bout cows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other dream about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OR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rcRect l="11030" t="7108" r="11398" b="15197"/>
          <a:stretch/>
        </p:blipFill>
        <p:spPr>
          <a:xfrm>
            <a:off x="0" y="0"/>
            <a:ext cx="3854520" cy="28954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504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dream was a warning from _______ about a coming famine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rcRect l="11030" t="7108" r="11398" b="15197"/>
          <a:stretch/>
        </p:blipFill>
        <p:spPr>
          <a:xfrm>
            <a:off x="0" y="0"/>
            <a:ext cx="3854520" cy="28954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3504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dream was a warning from </a:t>
            </a: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GO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about a coming famine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8T12:28:28Z</dcterms:created>
  <dc:creator>Sherilyn Dawson</dc:creator>
  <dc:description/>
  <dc:language>en-US</dc:language>
  <cp:lastModifiedBy>Sherilyn Dawson</cp:lastModifiedBy>
  <dcterms:modified xsi:type="dcterms:W3CDTF">2015-08-24T16:52:24Z</dcterms:modified>
  <cp:revision>4</cp:revision>
  <dc:subject/>
  <dc:title>PowerPoint Presentation</dc:title>
</cp:coreProperties>
</file>